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4C5-D45E-425D-9404-35F62A71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496-42FB-4E09-BFD6-E46F5CB4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B1E-0830-4159-8529-305DC82C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0E1-1343-4D2E-BD09-78671094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80D-F100-40FE-8867-D5F37F2C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478-2030-4CC2-890E-B8801212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CD5-3244-43D0-ABFE-86F43A61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061-0BA6-4164-AA02-E79AD3E5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C5C-47F9-42CA-BA06-5521FB0A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B62-C3E9-424A-9C0F-A2964B68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AA0-6DF3-4A98-9B00-D1CE70C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221-15C5-4589-9E60-1AD32CA2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C5C-AAB4-42E8-BC12-B0AF8DEFF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42800" y="264960"/>
            <a:ext cx="84567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1:25:14Z</dcterms:created>
  <dc:creator>Steve Shaffer</dc:creator>
  <dc:description/>
  <dc:language>en-US</dc:language>
  <cp:lastModifiedBy>Steve Shaffer</cp:lastModifiedBy>
  <dcterms:modified xsi:type="dcterms:W3CDTF">2013-02-26T21:25:37Z</dcterms:modified>
  <cp:revision>2</cp:revision>
  <dc:subject/>
  <dc:title>PowerPoint Presentation</dc:title>
</cp:coreProperties>
</file>